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DF2-0351-44DD-9C11-F51124F3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3CA-2835-4085-850A-DBB0517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2F8-63DF-44BE-A7EF-4772DFA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82B-622F-4BDA-BEF6-1296129A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A65-303E-463A-B80F-782093A4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F1D1-4E8F-4639-B780-98A0051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E8F-51F5-4E64-9585-1495123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7FD2-C238-4105-A337-02E766F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D8F8-A55C-4AB9-84D8-BC22B4EF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602-4BEA-414B-BD14-F902E88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B715-A3DD-4E22-910C-1FEAD5F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246-C03C-40CD-A76A-02A0F19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F2E-0C7F-4AE2-A794-329E4AD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1D27-9793-4616-978C-DD1E59E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C7FA-7B73-40A8-B9DE-28A7625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DD98-B3FA-4FFE-96DC-129722A1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7707-61AE-4B6B-9944-216DF6B1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222-CF73-47CA-9572-FD46D83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A7B-C420-4334-8A99-78567199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4F7-75A7-42AC-A27E-CA12B39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033-D94A-4530-B6E4-709C7B79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5B1-CE08-4DFD-8413-B97229C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5C0-C178-4B4C-8902-ACBDA13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2A1-5575-40F4-9040-CCEE0AE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06A8-EB37-4FEA-ABC8-886EABB284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FF37-1BA6-420B-9517-D86F9908D5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9280" y="1557360"/>
            <a:ext cx="896472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ионизирующего излучения на кожные покровы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жа различных видов животных реагирует на излучение соответственно своей структуре. Например, наиболее клинически выраженным радиационным изменениям кожи при внешним общем гамма-облучен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овец является эпиляция и образование склад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788000" y="907920"/>
            <a:ext cx="3806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свиней — множественные кровоизлияния по всей поверхности кож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211640" y="1773360"/>
            <a:ext cx="460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ее чувствительными к облучению являются клетки базального слоя кожи, волосяных луковиц и сосочков. При местном облучении дозой до 500 P необратимых изменений в коже не наступает. Более высокие дозы прекращают митоз эпителиальных клеток, вызывают набухание и пикноз их ядер, атрофию сальных желез, волосяных фолликулов и луковиц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500720" y="404640"/>
            <a:ext cx="446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овец, перенесших тяжелую форму острой лучевой болезни, ухудшается качество шерсти, снижается ее настриг, сокращается выделение кожного сала, уменьшается количество цистина и цистеина в волосах. Качество такой шерсти низкое и ее не подразделяют на классы. Товарная ценность шкур тоже снижается. Шкуры животных, убитых в разгар острой лучевой болезни и павших, относят к низким сортам или к несорто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оздействии больших количеств радиоактивных веществ (PB) у животных появляются лучевые ожоги кож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907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68360" y="1268280"/>
            <a:ext cx="4025880" cy="258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3280" y="126828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4032360" cy="266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6:42:42Z</dcterms:created>
  <dc:creator>Александр</dc:creator>
  <dc:description/>
  <dc:language>en-US</dc:language>
  <cp:lastModifiedBy>Александр</cp:lastModifiedBy>
  <dcterms:modified xsi:type="dcterms:W3CDTF">2013-02-21T17:30:59Z</dcterms:modified>
  <cp:revision>2</cp:revision>
  <dc:subject/>
  <dc:title>Слайд 1</dc:title>
</cp:coreProperties>
</file>